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6AD8-29A8-48A8-8B98-22BD3D5E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44D2-06A5-4892-8375-BE40A410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41D0-AA5F-4075-8BA7-2388048F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DE08-ABD6-442F-AB47-A9029F9B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538E-BE19-4893-AF25-2548A21D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9FFC-73DE-4961-9813-32AE6B11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7017-7435-4DC8-B1A4-EADD5A1B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7F3A-A31C-4A91-A7BE-0697CCCB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7196-4F78-47B7-BB93-5BD72E48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3051-89F9-4072-9192-016FECC7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0EB6-77DF-43D0-B6CC-E39EE40F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C76F-46AB-44D1-A594-77B481AF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F016-F84D-458E-A602-A0968861139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9B6A-094B-4738-925B-5F3AD474E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624720" cy="64764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2205000"/>
            <a:ext cx="6624720" cy="47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CIÓN DE DIRECTORES/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4797360"/>
            <a:ext cx="2737080" cy="307080"/>
          </a:xfrm>
          <a:prstGeom prst="rect">
            <a:avLst/>
          </a:prstGeom>
          <a:solidFill>
            <a:srgbClr val="fc20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DERICO PÉREZ MOR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56000" y="3429000"/>
            <a:ext cx="230328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Urxencias méd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9E6E-DB03-40BD-8B68-F36091B1A30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AD35B-49AE-4502-88B3-86C5623271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9128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844640"/>
            <a:ext cx="8064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1. ¿Teñen os docentes obriga de subministrar medicamentos ao alumnado nos centros educativos?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1341360"/>
            <a:ext cx="381636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dministración de medica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708280"/>
            <a:ext cx="8135640" cy="366012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n terían obriga no caso de actos médicos para os que non está preparado: Por exemplo, introducir unha cánula por vía rectal ou poñer unha inxección.  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Si tería obrig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vixilancia e control se a esixencia médica continuad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responde á necesidade dun simple aviso ou actividade sen risco, por exemplo, 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toma dunha pastilla ou dun preparado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 un alumno/a que pola súa idade non ten control do tempo e resulta necesario para a súa saúde básica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 (Ver instrucións  do 24 de outubro de 2003) (Ver no RO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En calquera caso debería existir no cent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ff"/>
                </a:solidFill>
                <a:latin typeface="Arial"/>
              </a:rPr>
              <a:t>Certificados médicos coas circunstancias do alum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ff"/>
                </a:solidFill>
                <a:latin typeface="Arial"/>
              </a:rPr>
              <a:t>Protocolos de actuación estable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ff"/>
                </a:solidFill>
                <a:latin typeface="Arial"/>
              </a:rPr>
              <a:t>Teléfonos de urxencias, ambulancias, pai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80DC-DE20-4003-BCB8-B3FFD343C2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B7C6D-7691-4D83-9C07-92D9183675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9128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2205000"/>
            <a:ext cx="799128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1. ¿Teñen os docentes obriga de subministrar medicamentos ao alumnado nos centros educativos?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484280"/>
            <a:ext cx="360036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dministración de medica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141720"/>
            <a:ext cx="8424720" cy="311148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n calquera caso non hai que esquecerse do que prevé o 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artº 13 da Lei 1/96 de protección xurídica do menor (BOE do 17 de xaneiro) e o artigo 29 do Decreto 42/2000, do 7 de xaneiro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, polo que se refunde a normativa reguladora vixente en materia de familia, infancia e adolescencia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gl-ES" sz="1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i="1" lang="gl-ES" sz="1800" spc="-1" strike="noStrike">
                <a:solidFill>
                  <a:srgbClr val="ff3300"/>
                </a:solidFill>
                <a:latin typeface="Arial"/>
              </a:rPr>
              <a:t>toda persoa ou autoridade, e en especial quen por razón da súa profesión, ou función teña coñecemento dunha situación de grave risco ou posible desamparo dun menor, e sen prexuízo de prestarlle o auxilio inmediato que procese, poñerao en coñecemento do Ministerio Fiscal, da autoridade xudicial ou do organismo administrativo competente, que garantirá a reserva absoluta e anonimato”</a:t>
            </a:r>
            <a:r>
              <a:rPr b="1" i="1" lang="gl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gl-ES" sz="1800" spc="-1" strike="noStrike">
                <a:solidFill>
                  <a:srgbClr val="000000"/>
                </a:solidFill>
                <a:latin typeface="Arial"/>
              </a:rPr>
              <a:t>Non atender a un alumno/a podería ser “denegación de auxili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B570-6B14-456C-9D22-B031EB70FC4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58884-BB90-4454-8079-75EF5DFBAF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28180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1125360"/>
            <a:ext cx="8281800" cy="37656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773360"/>
            <a:ext cx="7921440" cy="146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 Cando o alumnado de educación infantil non controla esfínteres e de forma habitual necesita ser atendido no horario lectivo e, tamén de forma habitual, non veñen os pais a cambialo, ¿que pode facer se o centro se non ten coidador e a Delegación non o manda aínda que se lle solicite?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3500280"/>
            <a:ext cx="7921800" cy="256284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n existe obriga por parte do profesorado de cambiar ao neno/a. Tampouco está previsto que todos os centros deban de dispoñer dun coidador ao efec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mo queira que as ensinanzas de E. Infantil non son obrigatorias, é responsabilidade dos pais este tipo de aten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utra cuestión é a forza moral que un mestre/a poida ter para non cambiar a un alumno/a, cando menos, se a situación non é habit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E1AD-90AB-4B75-9FEF-A75D3958596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29E3D-96DF-40FF-86DE-98EF91303F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28180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1125360"/>
            <a:ext cx="8281800" cy="37656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1773360"/>
            <a:ext cx="79214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3.  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2492280"/>
            <a:ext cx="7921440" cy="37620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3284640"/>
            <a:ext cx="79214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4.  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0A28-160B-473B-9D16-853417F5A64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98FDD-0C4C-444F-94CA-DBCE6E3F72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9:34:47Z</dcterms:created>
  <dc:creator>-</dc:creator>
  <dc:description/>
  <dc:language>en-US</dc:language>
  <cp:lastModifiedBy>-</cp:lastModifiedBy>
  <dcterms:modified xsi:type="dcterms:W3CDTF">2009-10-27T20:04:30Z</dcterms:modified>
  <cp:revision>23</cp:revision>
  <dc:subject/>
  <dc:title>PREGUNTAS E RESPOSTAS</dc:title>
</cp:coreProperties>
</file>